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73A-25AB-4215-BFB3-F723896E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CB6-4B9D-42AA-97BD-21850423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BFB-3101-4BFB-B037-947662F9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004-35E0-49DD-9725-BD35FACB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2EE-5090-4C3F-9CE6-6CDD31CA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A1B9-0987-4740-81B8-6FA07583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35A-D472-4C53-99E6-8CC88986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0B8-73D5-4D3C-8C9A-A275150C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FE0-FE44-48F7-8858-834C3F60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C28-8980-4C9B-82A7-09F36FD3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097-0BEC-4075-97B1-9C442DEC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208-DEEB-44D0-A589-1086B2B0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6DD9-8586-4410-9E47-383267D0A4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World progress 1970 - 201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501300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98989"/>
                </a:solidFill>
                <a:latin typeface="Calibri"/>
              </a:rPr>
              <a:t>NEW INTERNATIONALIST  EASIER ENGLISH IELTS / ADVANCED READY LES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987640" y="318960"/>
            <a:ext cx="601200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4280" y="233280"/>
            <a:ext cx="2791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7920"/>
            <a:ext cx="8291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about global issues and comparing simplified and original arti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discussing global issues – practice for the IELTS speaking ex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practice interpreting graphs and writing 150 word summary for IELTS writing exa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 can we measure progr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4920" y="169992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discuss, then read and make notes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eewiki.newint.org/index.php/Measuring_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discuss again, then read the original artic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newint.org/features/2013/03/01/a-measure-of-progress-keynot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now compare the two articles and note down some new vocab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020000" y="4962600"/>
            <a:ext cx="1485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 graphs on the infographic on the next slide (or on the link below, with zoom feature) – and discuss what they show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4149720"/>
            <a:ext cx="829152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newint.org/features/2013/03/01/world-progress-the-facts-infographic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3360" y="271440"/>
            <a:ext cx="904716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57360"/>
            <a:ext cx="5410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choose one of the sections of the infographic and write (in pairs, or alone) a summary of what it shows – 150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032520" y="155736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12:06:45Z</dcterms:created>
  <dc:creator>Linda</dc:creator>
  <dc:description/>
  <dc:language>en-US</dc:language>
  <cp:lastModifiedBy>Linda Ruas</cp:lastModifiedBy>
  <dcterms:modified xsi:type="dcterms:W3CDTF">2013-08-01T16:00:02Z</dcterms:modified>
  <cp:revision>10</cp:revision>
  <dc:subject/>
  <dc:title>PowerPoint Presentation</dc:title>
</cp:coreProperties>
</file>